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15800" y="152280"/>
            <a:ext cx="8940960" cy="419400"/>
            <a:chOff x="415800" y="152280"/>
            <a:chExt cx="8940960" cy="419400"/>
          </a:xfrm>
        </p:grpSpPr>
        <p:sp>
          <p:nvSpPr>
            <p:cNvPr id="1" name=""/>
            <p:cNvSpPr/>
            <p:nvPr/>
          </p:nvSpPr>
          <p:spPr>
            <a:xfrm>
              <a:off x="415800" y="152280"/>
              <a:ext cx="8940960" cy="209520"/>
            </a:xfrm>
            <a:prstGeom prst="rect">
              <a:avLst/>
            </a:prstGeom>
            <a:gradFill rotWithShape="0">
              <a:gsLst>
                <a:gs pos="0">
                  <a:srgbClr val="8901f3"/>
                </a:gs>
                <a:gs pos="50000">
                  <a:srgbClr val="440079"/>
                </a:gs>
                <a:gs pos="100000">
                  <a:srgbClr val="8901f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5320" y="457200"/>
              <a:ext cx="8616960" cy="114480"/>
            </a:xfrm>
            <a:prstGeom prst="rect">
              <a:avLst/>
            </a:prstGeom>
            <a:gradFill rotWithShape="0">
              <a:gsLst>
                <a:gs pos="0">
                  <a:srgbClr val="ff5008"/>
                </a:gs>
                <a:gs pos="50000">
                  <a:srgbClr val="4c1802"/>
                </a:gs>
                <a:gs pos="100000">
                  <a:srgbClr val="ff500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415800" y="6076800"/>
            <a:ext cx="8940960" cy="209880"/>
            <a:chOff x="415800" y="6076800"/>
            <a:chExt cx="8940960" cy="209880"/>
          </a:xfrm>
        </p:grpSpPr>
        <p:sp>
          <p:nvSpPr>
            <p:cNvPr id="4" name=""/>
            <p:cNvSpPr/>
            <p:nvPr/>
          </p:nvSpPr>
          <p:spPr>
            <a:xfrm>
              <a:off x="415800" y="6191280"/>
              <a:ext cx="8940960" cy="95400"/>
            </a:xfrm>
            <a:prstGeom prst="rect">
              <a:avLst/>
            </a:prstGeom>
            <a:solidFill>
              <a:srgbClr val="8901f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77880" y="6076800"/>
              <a:ext cx="8416800" cy="38160"/>
            </a:xfrm>
            <a:prstGeom prst="rect">
              <a:avLst/>
            </a:prstGeom>
            <a:solidFill>
              <a:srgbClr val="ff5008"/>
            </a:solidFill>
            <a:ln w="12600">
              <a:solidFill>
                <a:srgbClr val="ff5008"/>
              </a:solidFill>
              <a:round/>
            </a:ln>
          </p:spPr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 txBox="1"/>
          <p:nvPr/>
        </p:nvSpPr>
        <p:spPr>
          <a:xfrm>
            <a:off x="1670040" y="6399360"/>
            <a:ext cx="3056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© WARMOES &amp; VAN D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8908920" y="741240"/>
            <a:ext cx="430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22362899-6460-4FAD-A215-9338CEACA7CF}" type="slidenum">
              <a:rPr b="0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6124680" y="6399360"/>
            <a:ext cx="1838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Book Antiqua"/>
                <a:ea typeface="Book Antiqua"/>
              </a:rPr>
              <a:t>knowledg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5030640" y="6335640"/>
            <a:ext cx="685800" cy="43956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 txBox="1"/>
          <p:nvPr/>
        </p:nvSpPr>
        <p:spPr>
          <a:xfrm>
            <a:off x="314280" y="66996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c0128"/>
                </a:solidFill>
                <a:latin typeface="Book Antiqua"/>
                <a:ea typeface="Book Antiqua"/>
              </a:rPr>
              <a:t>CAIM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0008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333333"/>
                </a:solidFill>
                <a:latin typeface="Book Antiqua"/>
                <a:ea typeface="Book Antiqua"/>
              </a:rPr>
              <a:t>PRESENTATIE</a:t>
            </a:r>
            <a:br>
              <a:rPr sz="1800"/>
            </a:br>
            <a:br>
              <a:rPr sz="1800"/>
            </a:br>
            <a:r>
              <a:rPr b="1" i="1" lang="en-US" sz="7200" spc="-1" strike="noStrike">
                <a:solidFill>
                  <a:srgbClr val="fc0128"/>
                </a:solidFill>
                <a:latin typeface="Book Antiqua"/>
                <a:ea typeface="Book Antiqua"/>
              </a:rPr>
              <a:t>CAIM9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85880" y="3733920"/>
            <a:ext cx="6400800" cy="18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ip Sche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derik Vandepi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februari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37400" y="5560920"/>
            <a:ext cx="15098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2  Vraag klant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Situering van de CASE T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98440" y="2021040"/>
            <a:ext cx="72104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06480" y="743040"/>
            <a:ext cx="7391520" cy="19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3 Functionele globale design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Ondersteunde modelontwikk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9200" y="20574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itieel Relationeel Meta-Data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9200" y="1066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786040" y="579600"/>
            <a:ext cx="5573880" cy="13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3 Functionele globale design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63680" y="1461960"/>
            <a:ext cx="52293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3 Functionele globale design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Versiebeh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  <a:tabLst>
                <a:tab algn="r" pos="803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Multi User / Multi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  <a:tabLst>
                <a:tab algn="r" pos="763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nieuwe relaties in meta-relationeel datamod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637400" y="5560920"/>
            <a:ext cx="1509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zie volgende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3 Functionele globale design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Versiebeh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479"/>
              </a:spcBef>
              <a:tabLst>
                <a:tab algn="r" pos="76392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95440" y="1881360"/>
            <a:ext cx="546264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3 Functionele globale design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Versiebeh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  <a:tabLst>
                <a:tab algn="r" pos="8039160"/>
              </a:tabLst>
            </a:pPr>
            <a:r>
              <a:rPr b="0" lang="en-US" sz="2800" spc="-1" strike="noStrike">
                <a:solidFill>
                  <a:srgbClr val="919191"/>
                </a:solidFill>
                <a:latin typeface="Arial Narrow"/>
                <a:ea typeface="Arial Narrow"/>
              </a:rPr>
              <a:t>Multi User / Multi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  <a:tabLst>
                <a:tab algn="r" pos="7639200"/>
              </a:tabLst>
            </a:pPr>
            <a:r>
              <a:rPr b="0" lang="en-US" sz="2400" spc="-1" strike="noStrike">
                <a:solidFill>
                  <a:srgbClr val="919191"/>
                </a:solidFill>
                <a:latin typeface="Arial Narrow"/>
                <a:ea typeface="Arial Narrow"/>
              </a:rPr>
              <a:t>nieuwe relaties in meta-relationeel data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  <a:tabLst>
                <a:tab algn="r" pos="803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Tijdsdimensie inbrengen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  <a:tabLst>
                <a:tab algn="r" pos="763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s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  <a:tabLst>
                <a:tab algn="r" pos="763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latie logb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  <a:tabLst>
                <a:tab algn="r" pos="803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obleme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  <a:tabLst>
                <a:tab algn="r" pos="763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ijzigingen registreren / timestamp ? tracefile 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3 Functionele globale design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Meta-relationeel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Vervolledigd meta-relationee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806480" y="743040"/>
            <a:ext cx="73915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25480" y="1247760"/>
            <a:ext cx="645804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3 Functionele globale design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Automatische gener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  <a:tabLst>
                <a:tab algn="r" pos="803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omatische modelgene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  <a:tabLst>
                <a:tab algn="r" pos="763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erfaces naar verschillende pak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SzPct val="180000"/>
              <a:buFont typeface="Monotype Sorts"/>
              <a:buChar char=""/>
              <a:tabLst>
                <a:tab algn="r" pos="7238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dBase - Oracle - Access - AionDS (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SzPct val="180000"/>
              <a:buFont typeface="Monotype Sorts"/>
              <a:buChar char=""/>
              <a:tabLst>
                <a:tab algn="r" pos="7238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Narrow"/>
              </a:rPr>
              <a:t>MS Word - ABC Flowchar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  <a:tabLst>
                <a:tab algn="r" pos="8039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Testdatagene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  <a:tabLst>
                <a:tab algn="r" pos="763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uittesten van applicaties ontwikkeld bij Warmoes &amp; Van Dam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4 Technische globale design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Meta-relationeel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2880" y="19810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r" pos="794376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5960" y="2728800"/>
            <a:ext cx="846144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066760" y="762120"/>
            <a:ext cx="5410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 u="sng">
                <a:solidFill>
                  <a:srgbClr val="fc0128"/>
                </a:solidFill>
                <a:uFillTx/>
                <a:latin typeface="Book Antiqua"/>
                <a:ea typeface="Book Antiqua"/>
              </a:rPr>
              <a:t>INHOUDSTAF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7640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20024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Inle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0024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Projectver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86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1 Inlei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2 Vraag klant - behoeften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3 Functionele global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4 Technische global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5 Implemen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0024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onclus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4 Technische globale design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Meta-relationeel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6560" y="19810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  <a:tabLst>
                <a:tab algn="r" pos="7943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Mutatiecodes toevoegen : ‘I’ , ‘U’ , ‘D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r" pos="79437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5720" y="2668680"/>
            <a:ext cx="86439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4 Technische globale design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Meta-relationeel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2880" y="1676520"/>
            <a:ext cx="88390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  <a:tabLst>
                <a:tab algn="r" pos="7943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Technische ID + SessieNr = Primaire Sleu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8640" y="2921040"/>
            <a:ext cx="8847000" cy="2055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57360" y="2452680"/>
            <a:ext cx="22604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j te houde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4 Technische globale design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Meta-relationeel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5160" y="18288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  <a:tabLst>
                <a:tab algn="r" pos="7943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innen een sessie : Technische ID = Primaire Sleutel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ne representatie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(recentste model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3800" y="3200400"/>
            <a:ext cx="8629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4 Technische globale design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Meta-relationeel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42880" y="19810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  <a:tabLst>
                <a:tab algn="r" pos="7943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houd van een “logboek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  <a:tabLst>
                <a:tab algn="r" pos="754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omatisch of manuee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  <a:tabLst>
                <a:tab algn="r" pos="7943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Multi-U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  <a:tabLst>
                <a:tab algn="r" pos="754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niet simul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  <a:tabLst>
                <a:tab algn="r" pos="754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wel registrati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r" pos="7943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4 Technische globale design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Meta-relationeel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2880" y="19810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  <a:tabLst>
                <a:tab algn="l" pos="2628720"/>
                <a:tab algn="r" pos="7943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isico’s van het pro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  <a:tabLst>
                <a:tab algn="l" pos="2228760"/>
                <a:tab algn="r" pos="754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lanning : fa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  <a:tabLst>
                <a:tab algn="l" pos="2228760"/>
                <a:tab algn="r" pos="754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ondersteuning uit andere pak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  <a:tabLst>
                <a:tab algn="l" pos="2228760"/>
                <a:tab algn="r" pos="754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nieuwe omgeving  :  AionD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(expert system sh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sus bij Platinum technology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AION 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xpert system s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ruime ondersteuning verschillende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GUI 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goede interfacing met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veelzij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AionDS</a:t>
            </a:r>
            <a:br>
              <a:rPr sz="32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Verschillende niveau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Functioneel (procedure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lijkt sterk op Pa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Object Orië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lasses /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06480" y="514440"/>
            <a:ext cx="73915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Object-Oriën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357280" y="1447920"/>
            <a:ext cx="58104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806480" y="438120"/>
            <a:ext cx="73915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Object-Oriën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77920" y="1143000"/>
            <a:ext cx="6407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AionDS</a:t>
            </a:r>
            <a:br>
              <a:rPr sz="32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Verschillende niveau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Functioneel (procedure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lijkt sterk op Pa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Object Orië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lasses /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ule-based (declaratie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agenda / states /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5400" spc="-1" strike="noStrike">
                <a:solidFill>
                  <a:srgbClr val="fc0128"/>
                </a:solidFill>
                <a:latin typeface="Book Antiqua"/>
                <a:ea typeface="Book Antiqua"/>
              </a:rPr>
              <a:t>INLEID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58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806480" y="743040"/>
            <a:ext cx="739152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fc0128"/>
                </a:solidFill>
                <a:latin typeface="Book Antiqua"/>
                <a:ea typeface="Book Antiqua"/>
              </a:rPr>
              <a:t>Knowledge-based system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24120" y="1332000"/>
            <a:ext cx="416736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AionDS</a:t>
            </a:r>
            <a:br>
              <a:rPr sz="32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CA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omatiseert wat ontwerper do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erface naar AionDS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ventueel naar andere applic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806480" y="743040"/>
            <a:ext cx="73915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3 Abstractie Nivea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28920" y="1371600"/>
            <a:ext cx="58672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5  IMPLEMENTATIE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Fasering bouw Alfa-ver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FASE I :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GUI en integritei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Opslag van meta-databa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FASE II :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Versiebehe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QL-DDL generati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FASE III :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B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Grafische voorstelling, rapportgeneratie,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testdatagene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5  IMPLEMENTATIE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Fase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ern model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classes en s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Ontwikkeling van GU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arameterkopp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Opslag en inlezen van het inter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(Programmable Data Interf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5 Implementatie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Fase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42880" y="190512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Entiteitsintegr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unieke technische ID’s, transparant voor gebrui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ferentiële integr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delete restricted / update (nv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Model integr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pointerstructuur / mutatie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33600" y="3200400"/>
            <a:ext cx="7010280" cy="685800"/>
          </a:xfrm>
          <a:prstGeom prst="rect">
            <a:avLst/>
          </a:prstGeom>
          <a:solidFill>
            <a:srgbClr val="bc88e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5  IMPLEMENTATIE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Integriteitsbew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2880" y="1752480"/>
            <a:ext cx="8686800" cy="314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Functionalit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egriteitsbewaking in de praktijk (extra slots nod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keuze 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Wat willen we wanneer afdwingen 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647720" y="333684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LEXIBI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68800" y="3336840"/>
            <a:ext cx="3294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EGRITEITSBEW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6960" y="3581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5  IMPLEMENTATIE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Fase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4288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Versiebehee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back-up”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omatische database-gene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full &amp; incremental SQL-D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gerealiseerd : interface naar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(flexibel te wijzigen naar andere paket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gboe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IMPLEMENTATIE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Fase II : Beslissingstab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42880" y="18288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85720" y="2281320"/>
            <a:ext cx="859320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5  IMPLEMENTATIE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Fase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Grafische voorstel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apportgene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Testdatagene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1.  Inleiding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N.V.Warmoes &amp; Van D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9200" y="20574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Mission statemen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Kennisintensieve processen van klanten verbetere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  <a:ea typeface="Arial Narrow"/>
              </a:rPr>
              <a:t>Oplossingsgerich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, niet “technology driv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  <a:ea typeface="Arial Narrow"/>
              </a:rPr>
              <a:t>Multi-disciplinai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ncrete verwezenlijk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bouw expertsystemen, ontwikkeling neurale netwerken, schrijven manuals, business proces re-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Maaltecenter, Sint-Denijs-Westrem (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5  IMPLEMENTATIE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CA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476440" y="1905120"/>
            <a:ext cx="53481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571840" y="2460600"/>
            <a:ext cx="4629240" cy="93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5400" spc="-1" strike="noStrike">
                <a:solidFill>
                  <a:srgbClr val="fc0128"/>
                </a:solidFill>
                <a:latin typeface="Book Antiqua"/>
                <a:ea typeface="Book Antiqua"/>
              </a:rPr>
              <a:t>CONCLUS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3.  Implementatie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Resultaat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nalyse-fas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meta-relationeel model en bijkomende specificaties goed gefund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mplementatie (programmeren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leercurve AionDS (CA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amenwerking Warmoes &amp; Van Damme (Patrick Merleve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ens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ototype bijna bruikbaar in basisv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3.  Implementatie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En verder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03320" y="2833560"/>
            <a:ext cx="4916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fsluitend woord : Patrick Merlev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1.  Inleiding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Project “CAIM95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9200" y="213372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  <a:ea typeface="Arial Narrow"/>
              </a:rPr>
              <a:t>Prototyp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 voor bedrijfsinterne CASE-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niet paradigma-gebo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kennisintensieve applicaties mee b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kostpri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ojectleider : Patrick Merlevede (Production Mana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549440" y="2460600"/>
            <a:ext cx="6673680" cy="93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5400" spc="-1" strike="noStrike">
                <a:solidFill>
                  <a:srgbClr val="fc0128"/>
                </a:solidFill>
                <a:latin typeface="Book Antiqua"/>
                <a:ea typeface="Book Antiqua"/>
              </a:rPr>
              <a:t>PROJECTVERLOO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1  Inleiding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Schema projectverlo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428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076560" y="1709640"/>
            <a:ext cx="3543480" cy="35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98880" y="592200"/>
            <a:ext cx="437832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42880" y="190512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6212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Interactieve computerondersteunde specif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3840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lationele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6212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omatische modelgene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38400" indent="-285840">
              <a:lnSpc>
                <a:spcPct val="100000"/>
              </a:lnSpc>
              <a:spcBef>
                <a:spcPts val="479"/>
              </a:spcBef>
              <a:buClr>
                <a:srgbClr val="6e0043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ook increment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6212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Versie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343080">
              <a:lnSpc>
                <a:spcPct val="100000"/>
              </a:lnSpc>
              <a:spcBef>
                <a:spcPts val="479"/>
              </a:spcBef>
              <a:buClr>
                <a:srgbClr val="8901f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apportgene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06480" y="743040"/>
            <a:ext cx="739152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2.2  Vraag klant</a:t>
            </a:r>
            <a:br>
              <a:rPr sz="1800"/>
            </a:br>
            <a:r>
              <a:rPr b="0" i="1" lang="en-US" sz="4000" spc="-1" strike="noStrike">
                <a:solidFill>
                  <a:srgbClr val="fc0128"/>
                </a:solidFill>
                <a:latin typeface="Book Antiqua"/>
                <a:ea typeface="Book Antiqua"/>
              </a:rPr>
              <a:t>Behoeftenanaly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